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861640" y="884088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39C6842B-F881-48DC-B2F5-4905B3D7078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33480" y="4975200"/>
            <a:ext cx="5130720" cy="3611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3480" y="4975200"/>
            <a:ext cx="5130720" cy="3611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ity chart is also a supportive argument in collecting real time quality data to support more accurate future esti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15B82B9D-0401-462A-B135-95CFCC3C806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0404C35F-0E15-43FD-AE59-A2D26C3C539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Lecture: PSP2 Data Presenta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C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show benefits of Code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work reduction is ensured through catching defects before moving into compile and test where it is most expensive to remove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eeds well into A/FR discuss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262080" y="1036800"/>
            <a:ext cx="855972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otal Cost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ually fairly high and s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reviews doesn’t change this graph appreciably; reviews should shift time out of compile and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mplication is that higher quality products take no more time to produce when effective process methods ar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1274" t="20892" r="1826" b="12174"/>
          <a:stretch/>
        </p:blipFill>
        <p:spPr>
          <a:xfrm>
            <a:off x="571680" y="938160"/>
            <a:ext cx="81388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ppraisal Costs as a Percentage of Cost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2341080"/>
            <a:ext cx="741348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grow as early review steps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rcRect l="1851" t="23639" r="16738" b="15215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ppraisal to Failure Ratio (A/FR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be near zero before the review steps are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grow as early review steps are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 rates versus A/FR as a cross-check on process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push to get a class average above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rcRect l="1244" t="21018" r="1781" b="12174"/>
          <a:stretch/>
        </p:blipFill>
        <p:spPr>
          <a:xfrm>
            <a:off x="571680" y="907920"/>
            <a:ext cx="81388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/FR vs. Tes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A/FRs should yield fewer test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not, focus on improving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 review checklists are essenti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s are generally more effective than design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exercises with 0 test defects for an A/FR less than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w A/FR in your plan implies that you’re planning for low quality! (Since the tool calculates this value, it means you have been historically producing low quality program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rcRect l="1465" t="20564" r="1747" b="11915"/>
          <a:stretch/>
        </p:blipFill>
        <p:spPr>
          <a:xfrm>
            <a:off x="563400" y="984240"/>
            <a:ext cx="8150400" cy="5435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882800" y="4776840"/>
            <a:ext cx="61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igher defect densities are apparent when A/FR is less than 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100%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reviews are introduced this is typically very l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achieve yields above 50%; a few reach 10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es averages above 50-60% are norm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 rates versus yield as a cross-check o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rcRect l="1347" t="20411" r="1800" b="11894"/>
          <a:stretch/>
        </p:blipFill>
        <p:spPr>
          <a:xfrm>
            <a:off x="571680" y="938160"/>
            <a:ext cx="81388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A/F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A/FRs should give better yiel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not, ei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ive down A/FR while maintaining yie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rcRect l="1263" t="20667" r="1800" b="11915"/>
          <a:stretch/>
        </p:blipFill>
        <p:spPr>
          <a:xfrm>
            <a:off x="563400" y="952560"/>
            <a:ext cx="8150400" cy="5456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666800" y="2668680"/>
            <a:ext cx="61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aggregate class data shows that Yield is less than 40% when A/FR is less than 2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ivity Tren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significantly affected by adding process steps, thus possible use a high quality process to produce high quality products without addition co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mary driver is student fluency in the programming language u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averages typically in 25 - 50 LOC/hr r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should rise for larger programs as planning and postmortem costs are amortized over more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63400" y="952560"/>
            <a:ext cx="8150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Productivity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uld be relatively flat, but individual data may be differ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ig gains come at the next level, when teams put together PSP-developed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tom line: Quality is free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1480" t="20667" r="1800" b="11915"/>
          <a:stretch/>
        </p:blipFill>
        <p:spPr>
          <a:xfrm>
            <a:off x="563400" y="952560"/>
            <a:ext cx="8150400" cy="5435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1201680" y="1430280"/>
            <a:ext cx="616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cattered data points with varying productivity and yield show there is no relationship between yield and productivity and argue that quality is free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2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will help you to understand the data analysis at the PSP2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2224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helps to convince students that using the PSP methods will help them to do bette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can be used as a benchmark to help show what i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y to present class data every day if possible, but make sure there is enough data so that an individual’s performance is not 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class, give the students copies of a final set of the overall class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Data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487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 only composite data (unless you want to use your personal data as an example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ect the privacy of studen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data presentation include those in PSP0 &amp; PSP1, plus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rates (per h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 in DLD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 in C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cost of quality (COQ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ppraisal COQ as a % of total COQ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/FR rati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/FR vs test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 vs A/F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ivity tren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 vs productiv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R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trend analysi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 - 4 for test (for both experienced and inexperienced engine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 - 20 for compi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 - 10 for code review (for both experienced and inexperienced engine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review rates should be better than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ile rates may be large, but what kinds of errors are being removed?  How much time is saved simply by not making the kinds of errors that a compiler find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41360" y="941400"/>
            <a:ext cx="8288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Found in DLD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bjective: show benefits of Design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ecorded number of design defects immediately increa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work reduction is ensured through catching design defects before moving into cod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:\DOCUME~1\snurhan\LOCALS~1\Temp\msohtml1\01\clip_image001.gif"/>
          <p:cNvPicPr/>
          <p:nvPr/>
        </p:nvPicPr>
        <p:blipFill>
          <a:blip r:embed="rId1"/>
          <a:stretch/>
        </p:blipFill>
        <p:spPr>
          <a:xfrm>
            <a:off x="353880" y="950760"/>
            <a:ext cx="845820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1Z</dcterms:modified>
  <cp:revision>213</cp:revision>
  <dc:subject/>
  <dc:title>No Slide Title</dc:title>
</cp:coreProperties>
</file>